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AADB-F57F-4B10-9C2B-8E814825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036-02BE-4400-973F-FA146019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351-5BB0-42F3-B32D-053BEFC3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0C5-273F-43EB-B8CD-E1D46E2B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D6F-7699-4063-836C-2975A14D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DBE-0E84-4897-BB7E-90175CC7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D145-673B-477F-8740-C10C5B68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3B3-762B-48B5-99F4-EB130932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12A-9AE9-42AE-BA0F-729D80AC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F67-24EA-4680-A6BA-B90DB63C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030-D01E-45B7-B51C-73D9DE47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1E7-5A1C-4112-AF47-6B1C3370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6F02-157B-487E-A99C-95DDBDE6C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87640" y="3573360"/>
            <a:ext cx="460872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alibri"/>
              </a:rPr>
              <a:t>Angola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549360"/>
            <a:ext cx="2206800" cy="2735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003640" y="18900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227640" y="314172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kumbira fores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4000" y="3716280"/>
            <a:ext cx="3044520" cy="202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0000" y="5877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alibri"/>
              </a:rPr>
              <a:t>Angola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844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alibri"/>
              </a:rPr>
              <a:t>Jonas Savimbi, Famous Political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788000" y="4208400"/>
            <a:ext cx="3908160" cy="2482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35280" y="5300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alibri"/>
              </a:rPr>
              <a:t>Luanada, Angola’s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07:14:32Z</dcterms:created>
  <dc:creator>Gisela Sole</dc:creator>
  <dc:description/>
  <dc:language>en-US</dc:language>
  <cp:lastModifiedBy>Gisela Sole</cp:lastModifiedBy>
  <dcterms:modified xsi:type="dcterms:W3CDTF">2010-09-01T07:18:54Z</dcterms:modified>
  <cp:revision>2</cp:revision>
  <dc:subject/>
  <dc:title>Slide 1</dc:title>
</cp:coreProperties>
</file>